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DC88-11CD-4B49-9BF9-2C4E3D38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6446-66D8-4355-94E9-BD3FE216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F78E-1197-40A0-B112-7B1D0401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B4C8-7BE7-41CE-964E-12F70E79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130E-BAB2-4F8E-AF2D-ECEB3189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13A7-E780-459B-B872-AA4C0ABF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20FE-9AAE-43D1-A477-B85A1BA5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169C-1D4D-45FB-8119-579DCF92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D09D-45CB-4F90-B7BB-24A6C529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807B-089F-48B2-8E0B-38F12A88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F9D6-EF33-4223-B8D0-A8EEF862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19EC-43FA-4695-BA44-18A75F30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BB95-C68E-4D45-BDBA-FC6B4E7B2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eb.mit.edu/invent/iow/pfranklin.htm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247200">
            <a:off x="1905120" y="456840"/>
            <a:ext cx="556236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latin typeface="Arial Black"/>
              </a:rPr>
              <a:t>Cool Do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594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87200">
            <a:off x="5492160" y="4191120"/>
            <a:ext cx="16002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San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9/27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Computer # 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4952880"/>
            <a:ext cx="40384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 The W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10/4/2010, WWW.FREE PLAY 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639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Cool D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n Ice cream shaped like a d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l Dog was invented in 1999 Franklin painted it and mad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l Dog was Pat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2 The Vice President ordered cool dog for the opening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a lived in Concord Mass, where devoted to improving the Cool Dog in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Peter Frank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klin grew up in a creative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1952 in Darien, Connectic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earned an MBA in 1975 with long term goal of running his own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 Franklin Graduated in Pharmaceut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4 sales totaled for $400 million dollar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Walker"/>
          <p:cNvPicPr/>
          <p:nvPr/>
        </p:nvPicPr>
        <p:blipFill>
          <a:blip r:embed="rId1"/>
          <a:srcRect l="0" t="-6095" r="34908" b="0"/>
          <a:stretch/>
        </p:blipFill>
        <p:spPr>
          <a:xfrm>
            <a:off x="2590920" y="1752480"/>
            <a:ext cx="5257800" cy="2643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Walker"/>
          <p:cNvPicPr/>
          <p:nvPr/>
        </p:nvPicPr>
        <p:blipFill>
          <a:blip r:embed="rId2"/>
          <a:srcRect l="67339" t="3609" r="3958" b="9636"/>
          <a:stretch/>
        </p:blipFill>
        <p:spPr>
          <a:xfrm>
            <a:off x="380880" y="22860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4724280"/>
            <a:ext cx="5638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ol Do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29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pfrankli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8:07:14Z</dcterms:created>
  <dc:creator>Jack Hille School</dc:creator>
  <dc:description/>
  <dc:language>en-US</dc:language>
  <cp:lastModifiedBy>install</cp:lastModifiedBy>
  <dcterms:modified xsi:type="dcterms:W3CDTF">2010-10-14T17:37:15Z</dcterms:modified>
  <cp:revision>4</cp:revision>
  <dc:subject/>
  <dc:title>Slide 1</dc:title>
</cp:coreProperties>
</file>